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B672-E2C9-486A-84B8-DAA1AAC8F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EE07-9587-4E5D-9EA7-EDD6950A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34AA-446F-4500-94AD-649CE5144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C0B6-C091-4703-847E-12AE4A533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8A197-DDB2-4CE7-84E5-4DFF05900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36E2-178E-4048-8056-672E1A2A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C9F3-46B3-4857-A10D-CEAC6654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46DF-A28E-47A5-B9C4-47EEE69B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7269-5A5D-49B9-9F27-F4F69F21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39C7-210E-4EFC-90BB-754E4606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BF18-EF44-4C4D-A5D9-CE2613C1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EB77-49CC-4C71-8736-EBECA342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2D3B-6AF7-4375-8DF7-25433DE9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192D-0EC9-417F-B8B7-125DA9B0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A8CA-D232-4188-9F2B-C22C2D7A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BA60-09EA-4487-AB02-43BFE6E82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C64D-00F9-4636-B740-45CF3AE39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A3D9-8CFC-4CA6-8EAB-2495099E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3565-E7F3-4FF4-9291-6F359604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D220-7213-44A6-9E1D-D57B611A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767D-1256-4798-AE88-DE39E94E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F2CB-868B-4381-8531-6F3C74C5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8A1B-C182-46AE-A2EF-D30169C7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F2F2-4D7F-468A-91B3-AB3002B7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0FCF-1D37-47BD-8353-C26BED34B0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AD79-6601-4C7D-984C-7EFADDF0A2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atmosphere.mpg.de/media/archive/3452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oceandrilling.org/Documents/Oceanus/Lith/Lith3HR.html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hapter 5 Biogeochemical Cycle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ke Washington Case Stu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[Map of Washington]"/>
          <p:cNvPicPr/>
          <p:nvPr/>
        </p:nvPicPr>
        <p:blipFill>
          <a:blip r:embed="rId1"/>
          <a:stretch/>
        </p:blipFill>
        <p:spPr>
          <a:xfrm>
            <a:off x="1447920" y="2209680"/>
            <a:ext cx="601956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Map of Global Tectonic and Volcanic Activity of the Last One Million Years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Hydrologic Cycle: Ch 19 in detail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Image of hydrologic cycle"/>
          <p:cNvPicPr/>
          <p:nvPr/>
        </p:nvPicPr>
        <p:blipFill>
          <a:blip r:embed="rId1"/>
          <a:stretch/>
        </p:blipFill>
        <p:spPr>
          <a:xfrm>
            <a:off x="304920" y="1295280"/>
            <a:ext cx="85341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ajor Global Cycl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b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tro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osphor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do we find C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 it have an atm st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ight carbon cycle be thrown out of bala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happens if out of bala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Carbon Cyc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aseous (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.  Most important organic compou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33520" y="2514600"/>
            <a:ext cx="533160" cy="685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867280" y="3124080"/>
            <a:ext cx="990720" cy="5335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Nitrogen Cyc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do we find 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 it have an atm st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ight the nitrogen cycle be thrown out of bala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happens if out of bala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403848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Nitrogen Cyc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most of the atm (about 80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Lightning along Oswalt Road near Overbrook, OK, 28 Mar 0"/>
          <p:cNvPicPr/>
          <p:nvPr/>
        </p:nvPicPr>
        <p:blipFill>
          <a:blip r:embed="rId1"/>
          <a:stretch/>
        </p:blipFill>
        <p:spPr>
          <a:xfrm>
            <a:off x="4495680" y="3962520"/>
            <a:ext cx="4245120" cy="28954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Bugs"/>
          <p:cNvPicPr/>
          <p:nvPr/>
        </p:nvPicPr>
        <p:blipFill>
          <a:blip r:embed="rId2"/>
          <a:stretch/>
        </p:blipFill>
        <p:spPr>
          <a:xfrm>
            <a:off x="4495680" y="762120"/>
            <a:ext cx="4191120" cy="29844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399720" y="22860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10 m. tons annu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4038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 m. tons annu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8229600" cy="617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itrogen cycle key steps!!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rst in atmosphere as N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n in the soil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itrogen fixation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ixes N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o a form plants can u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 Other bacteria convert ammonia int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itrate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 N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392880" y="3886200"/>
            <a:ext cx="275112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0000"/>
          </a:solidFill>
          <a:ln w="9360">
            <a:solidFill>
              <a:srgbClr val="99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o living thing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 Plants absorb nitrates and ammonia b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ssimi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plant roo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2971800"/>
            <a:ext cx="50292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ack into soil agai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ack into the atm aga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57200" y="3657600"/>
            <a:ext cx="228600" cy="5335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62120" y="4343400"/>
            <a:ext cx="160020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5" name="" descr="nitrogen cycle1.gif (124063 bytes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943600" y="68580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0% N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 a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29200" y="4495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mmonif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60958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itrification ste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09680" y="5257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itrification ste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666880" y="4267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ssimi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43400" y="1447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itrogen fix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4267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nitr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ymbiosis - Crop Rot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648320" cy="48006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105520" y="1676520"/>
            <a:ext cx="403848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hosphoru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osphorus has no atm st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es this affect its’ use by l.t.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hosphorus Cyc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o gaseous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red in rocks and organic material in so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nks to microbial action, changed to phosphates  (P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4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3-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r HP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4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which plants can access. (slow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683560" cy="65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at is a biogeochemical cycle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h a chem takes through air, water, soil, orgs. and back to air or so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 taken to cycle var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seous elements fast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gaseous slow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Geologic Cycl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tonic Cy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continent spreading and converging"/>
          <p:cNvPicPr/>
          <p:nvPr/>
        </p:nvPicPr>
        <p:blipFill>
          <a:blip r:embed="rId1"/>
          <a:stretch/>
        </p:blipFill>
        <p:spPr>
          <a:xfrm>
            <a:off x="457200" y="2286000"/>
            <a:ext cx="83059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p layer (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ithosphe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is constantly created and destroyed.  Large segments (tectonic plates) move past one an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form fault  =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rgent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vergent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76212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form fault  = slid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1913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403848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rgent = colli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8153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vergent = sprea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990720"/>
            <a:ext cx="82296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5:00:23Z</dcterms:created>
  <dc:creator>tosborne</dc:creator>
  <dc:description/>
  <dc:language>en-US</dc:language>
  <cp:lastModifiedBy>tosborne</cp:lastModifiedBy>
  <dcterms:modified xsi:type="dcterms:W3CDTF">2010-09-30T14:41:23Z</dcterms:modified>
  <cp:revision>41</cp:revision>
  <dc:subject/>
  <dc:title>Chapter 4 Biogeochemical Cycles</dc:title>
</cp:coreProperties>
</file>